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05C-779C-4BB0-AE1D-EF6ACAE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279-B914-4BCB-87CE-B4E2E23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F17-428F-4802-9E45-ABED5F54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6D2-F10B-4E5F-A856-CE5D3FAE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CC54-C7E8-4D64-AB41-4F4E0FBA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371-B33B-40E8-998A-DF2A87E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947-4850-41CF-8023-F2042DCB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F6A0-8284-471D-95AC-2521FC7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6F3-3DC5-4085-9E5C-450DA7B1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66C-4E2A-4B67-A21C-8FCC8A88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2A4-D6C8-442C-9082-1E522C8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D3D-DD20-4F8A-97D1-7EB2142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8FB7-47E9-441A-9052-271AAF6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B772-D568-4E7A-8281-371FCA5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E08C-6FAF-4B2C-BAF6-6D9AF103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895-6065-4B29-9E88-FAB69247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1189-34CC-4EB8-92F9-9B650C2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B403-FA18-450B-BADF-81EFD0B9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A397-2635-4FFF-8C27-6CC48A35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25EC-9FCB-46BA-82CD-0BC3B60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54D7-A2FC-4E4E-BD77-0A8562AF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ABEC-C9FB-495E-90E0-7B56656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C01-F60B-45D3-8855-1103A2B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53B3-5EA3-47FA-AA19-F185BAB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1045-5B91-4EB3-8045-D24C949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506B-CF7E-41C0-9D16-F57815F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1447-A98D-44B7-97BC-E3B32C8F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E31A-E6A6-4001-B84D-87BCFA9B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4F06-D90F-45A7-9306-1B5FA4E7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475B-870B-4BFF-829B-2C6FF92C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000B-A271-4088-98B5-B3685E0B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4AE7-815F-4B47-B4E7-87FFDFF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D2B7-83EE-4C40-8143-0932369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7A5-034F-4964-A7AB-B7FF725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A476-3FBF-443E-BFDD-3ADC58D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FA68-44C1-463E-B9A1-91A8E20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60B8-CC06-47DA-BC3D-593A160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1A2D-6963-4491-B186-F3DAA0F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BF08-2C22-43DE-A87F-726CD13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9D9E-EABD-4A98-8702-2FE59D8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57C3-2F70-4A6C-A600-56308A8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F4A4-A67C-4E8B-A938-710E61C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B0BF-B278-4DA0-8DF1-E1316F9E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C94D-8F04-40B0-BC49-B60CFE27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D9B-570F-4721-921C-575BAAD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99F3-EB5E-4DE4-8200-561D62C6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F032-1C05-4F60-B4BE-3ED8B0D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F282-3A06-4190-B0D4-773BDCBE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71FF-6929-45E3-84C6-7358005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E298C-E31F-4255-BCC1-BE10725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F908-AAF5-4739-9718-AF9B077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8EAA-F734-47C7-B07F-72F1069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FFA4-1BE8-460D-AC53-120DB69A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4D67-6AB0-41B3-8AFE-E077AF4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3102F-BF53-49D1-8657-DA8B3144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2D9-85D1-4638-9EA3-D3A8A310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FB00-0850-4C50-817C-D46E8B33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64A1-A76D-4D8C-A12A-1AA1AFA7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76DE1-FC47-4F9E-950E-4A6B20F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FF11-26CE-4596-B078-59E5A40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7DBD4-4867-4180-9494-450B8715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42D3-DB3E-45E0-8B5A-C2E279B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4CA0F-6FD2-4B95-AC0A-E33BFACB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D0CA-8C8E-4154-BB3A-5CC137B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2B2E-4479-414E-89D5-C34248A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63AC-3B7C-4F5B-B316-E04F0C2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896-C530-44E9-8F47-0139CDD8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2011-1DF1-47E5-87F5-0B629F5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691FB-979B-410C-9D10-B1321893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97C48-F602-4DB5-821B-ABD6D7A1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941A-AFA3-48A1-9784-A9F3F02D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42B8-43CD-478E-AFAA-6F9E34F9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DFB2-3224-4E64-A05E-5CEB625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036C-9DED-483D-B322-B4E0F52B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33043-32AD-4D49-97D3-9030B59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59B3-64FA-478A-9001-3A57ACF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62DA-759A-47C4-9F86-67EC62A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58E-3414-4390-BEB2-913161D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13D4D-51AE-4C45-955C-DAC2422F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5C61-BD38-4164-BE02-668E03DE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D8F6-FFF1-41E8-B952-086D2EE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3212-D140-42E4-AC0F-A84871B5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7B86-4716-4375-8840-378EA74B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B92-6CC4-4CE0-BACA-1AFF3CC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8F38-5C67-40EA-BC2F-0B06607E1291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CBC-0889-4888-9630-914F70D2E478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931F-9469-4206-BFA8-428F48478725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E4B2-459A-4171-BA25-761290E9231F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D95-4B96-4AB2-93D7-9E377362D045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9916-8C17-4BE0-ACD5-EBE23D78F821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E5BE-581F-430D-AD6C-7A30037F6197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e109178</cp:lastModifiedBy>
  <dcterms:modified xsi:type="dcterms:W3CDTF">2012-11-26T15:01:01Z</dcterms:modified>
  <cp:revision>43</cp:revision>
  <dc:subject/>
  <dc:title>Student Internet Use</dc:title>
</cp:coreProperties>
</file>